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718-CD81-41CB-8F89-872BB03D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47D-9729-4DCF-88C6-592D2059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5E1-B245-44E1-AA08-91C095F1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D44-C2EB-47BB-BFB2-9971612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C19-5CA2-4E04-8AD3-9FF74B5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30D-2952-4A46-A947-5005AE6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BE5-DDFD-4A61-9F7B-CACA347D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AB2-CBE8-4BD0-8DC4-6F512CB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B1A-F26D-423D-B1D6-66B2BC4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0E1-636E-4698-8062-2E2C34C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1A7-A7FF-4F1A-AA1F-2F7CC48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3BA-F930-41FF-8469-0F0BF65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74F5-E3C0-47FA-80FB-98357ABABA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600200"/>
            <a:ext cx="8458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600200"/>
            <a:ext cx="0" cy="5105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304920" y="2282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ivided Kingdom, Part 2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Na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ign of Josiah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47-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572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ll There Was No Remed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B17-5488-4595-B623-C2BF7006BECB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osiah Repaired the Temple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3-7;  2 Chron. 34:8-1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e had been tra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26), he instructed the priests to repair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and materials were paid from money collected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kept of the silver collected but not the money col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B37-59CE-401F-94B0-2D84B7E8543B}" type="slidenum">
              <a:t>10</a:t>
            </a:fld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ook of the Law Discovered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8-14  2 Chron. 34:14-2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lkiah, the high priest, found the book of the law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han took the book to Josiah and read it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tore his clothes in fear because of the message of wrath to those who have not kept the words written in th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nted his men to go to Huldah, a prophetess, to inquir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2A7-06EC-4C09-8C80-FD1660ECE2CB}" type="slidenum">
              <a:t>11</a:t>
            </a:fld>
          </a:p>
        </p:txBody>
      </p:sp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ophecy of Huldah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15-20  2 Chron. 34:22-2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onfirmed the calamity that was to come upon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:  Idolatry (spiritual adult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Josiah will be spared from the wr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:  He heard the words and humbled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engers gave Josiah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DFB-DDFC-4EC9-91CA-A619634D1CD1}" type="slidenum">
              <a:t>12</a:t>
            </a:fld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koshite 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life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ook written before the final downfall of Nineveh (about 612 B.C.); probably during the reign of Josiah, or even earl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edicted the destruction of Nineveh – the capital of As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539-4811-40F0-B46A-30EF4EB9B50F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137160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486400"/>
            <a:ext cx="342900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yria during the time of Nahum the reign of Jos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56C-06E1-4ADA-9F98-0D19F44F597A}" type="slidenum">
              <a:t>3</a:t>
            </a:fld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Theme of the Bo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rden of Nineveh” (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fort Judah who had longed for deliverance from As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hasize the justice of God toward the heathen worl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um saw God’s power for salvation of His people and for vengeance on thei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phecies were remarkably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301-CE1A-4C89-8B4C-B89706761564}" type="slidenum">
              <a:t>4</a:t>
            </a:fld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mercy and judgment (v.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jealous, vengeful, and wrath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slow to a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power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ows those who trust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enemies cannot escape His fury – they will be utterly destroyed (v.8-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alled on Judah to celebrate (v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04C-7569-46F6-BEE2-BF2AF5BC2113}" type="slidenum">
              <a:t>5</a:t>
            </a:fld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ege and destruction of Nineve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-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veh warned to prepare for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tack will be furious with great 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streets are filled with soldiers and chariots who kill and des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fenders will flee; the city is des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time for punishment had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aid, “I am against thee” (v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354-FB4F-47A0-9336-93A8E0D014A5}" type="slidenum">
              <a:t>6</a:t>
            </a:fld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veh’s sins and inevitable do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.1-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judgment was fair and de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ould strip her naked and all nations would see her filth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ample of No (Thebes of Egypt) which the Assyrians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ed to prepare for battle but to expect complete destruction (v.14-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A70-97EB-4F63-806F-60C2F30E66D7}" type="slidenum">
              <a:t>7</a:t>
            </a:fld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the Fall of Nineveh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 of the evil (Assy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, brutal,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ed on the blood of other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 special revelation from God -Jonah preach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stroyed Israel and caused Judah much g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was deserved for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e curse of Gen. 12: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DF2-FF0B-4F55-91D0-75031CB6E5DB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, back to Josiah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his reign at age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16), he began to seek the God of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20), he started cleaning out the idolatry i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65B-8162-4683-B471-B0D5B4B3F34D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4:05:51Z</dcterms:created>
  <dc:creator>Frank D Vines</dc:creator>
  <dc:description/>
  <dc:language>en-US</dc:language>
  <cp:lastModifiedBy>Frank D Vines</cp:lastModifiedBy>
  <dcterms:modified xsi:type="dcterms:W3CDTF">2006-03-08T04:46:29Z</dcterms:modified>
  <cp:revision>17</cp:revision>
  <dc:subject/>
  <dc:title>The Divided Kingdom, Part 2 </dc:title>
</cp:coreProperties>
</file>